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A8B-B040-4106-BC16-C2C36A8E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EE9-2D95-4DED-9D63-51E87184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ECF1-41B4-4F96-AF08-D4FA8B47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581F-F6EB-42BA-86EF-60F808E8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3191-F87C-43A9-BD62-46B2C6DE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101E-E95E-42E1-89D3-5AF10FA0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FFB9-18E4-4F05-8E58-10B540B3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75EA-8A78-48DA-B750-C5E8879A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0153-1324-4A81-876B-A40A52DC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9377-61FC-4B03-B1DD-C7E185E8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9DDB-DF72-434E-A221-4844897F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763-482C-485D-A1EB-30A9B443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B1C4-9117-4496-9677-0A90B902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308B-6379-441E-B1D6-28D15A5C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1316-D0C5-4659-9D78-BB752E0A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48F3-914E-4EB0-8772-053BA522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85E8-0B80-44C7-9693-AE7A97D0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A57-68F7-4168-9A10-7DD83D04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EAE-A465-4635-B83A-37EFE124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C9B-7437-42FB-B7E7-516FCA8C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531-CD60-4BBF-A7E5-B19F7241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B27-D218-4B4C-B9BF-372471C0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6179-DC4C-43CD-9462-F34D25FA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5ED-D75A-450A-A22D-4A906AD9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478A-5DE9-4601-A997-990179F6D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89CA-D85E-4B93-B0DB-95A935B136F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yst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all the different standards you’ve ever heard of that are used to measure the amount of stuff in some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ric standard for amount of matter: Grams 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ss is not the same thing as weight!  This becomes important when we start talking gravity and oute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metric system uses seconds (s) as the standard for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ric system uses degrees Celsius (°C) or degrees Kelvin (°K) for measuring temper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re supposed to use Kelvin, but really we usually use Celsi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again, shout it out!  Metric standar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ric system’s Power of Ten addresses a problem many of you found in your Setting Standards lab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standard for measuring the room is bulky and imprecise for measuring smaller shapes, and what’s good for measuring smaller shapes is tedious when measuring larger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ystem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19320" y="1058760"/>
            <a:ext cx="716256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ystem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is whole thing in your note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brell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d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o - 1000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to - 100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ka - 10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)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i - .1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 - .01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i - .001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ystem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DUDCM stands for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the large number end, which is the small number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ach of these is a measurement in meters, tell me which prefix would be best to turn the measurement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each of these is a measurement in meters, tell me which prefix would be best to turn the measurement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 -&gt; Best to turn into hecto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05 -&gt; Best to turn into centi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00 -&gt; Best to turn into kilo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 -&gt; Best to turn into dek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003 -&gt; Best to turn into milli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-&gt; Best to leave as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verting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at you have a number with one prefix, like millimeters, and you want to know how many meters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I turn 50 millimeters into its equivalent in me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ve you learned in math, or in middle school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verting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 Remember KHDUDCM.  Locate your starting prefix on the scale, and your finishing pref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 Not counting your starting prefix letter, count how many letters are in between the tw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: From M to U is thre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rom H to C is four. 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verting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 Hop the decimal place that many digits in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direction as your movement along the le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: If you counted from K to U, you’ll move the decimal place to the righ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f you counted from M to C, you’ll move the decimal place to the left. 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verting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ction: let’s turn 700 millimeters into dek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On KHDUDCM, the starting prefix is M, the finishing prefix is the farthest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hat’s a count of f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verting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ction: let’s turn 700 millimeters into dek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he decimal place starts out at the end of the number.  Hopping it four places to the left (because the letters moved to the left), we get… .07 dekame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verting Prefix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whitebo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KHDUDCM at the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Pract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five question quiz for another table on changing metric system prefix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artner writes the quiz paper, the other partner writes the answer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your quiz, and you take the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check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y Concepts Thus Fa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science (and pseudoscience and non-scienc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6 characteristics of sc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able to use PLORNT to analyze a cla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between physical and chemical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variables in an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 fair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precision and accura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quantify preci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ble to identify number of sig figs, and do arithmetic with the correct number of sig fi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ble to read an instrument to the correct number of sig fi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quantify accura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ble to calculate percent err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what units the metric system uses for mass, length, area, volume, time, and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the metric system prefi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convert a figure from one prefix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tting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your standard proved to be a difficul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a standard made it easier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de for an accurate stand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ecise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tting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ric system was designed to handle these difficulties.  It’s set up to be the easiest, most precise, and most accurate standard that we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cience, we will always be using the metric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ll the different standards you’ve ever heard of that are used to measure the length or distance of some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ric standard for length: Meters (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ll the different standards you’ve ever heard of that are used to measure the surface area of some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ric standard for surface area: Meters squared (m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back to the lab: why is it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ric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ll the different standards you’ve ever heard of that are used to measure the volume of some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ric standard for volume: Liters (L) OR Meters cubed (m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back to the lab: why is it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2:44:09Z</dcterms:created>
  <dc:creator>Rebecca Stang</dc:creator>
  <dc:description/>
  <dc:language>en-US</dc:language>
  <cp:lastModifiedBy>Rebecca Stang</cp:lastModifiedBy>
  <dcterms:modified xsi:type="dcterms:W3CDTF">2009-10-04T14:54:32Z</dcterms:modified>
  <cp:revision>33</cp:revision>
  <dc:subject/>
  <dc:title>Dimensional Analysis</dc:title>
</cp:coreProperties>
</file>